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059870-2F1D-4ED8-ADBD-70D598C75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B30C51-C0D0-4E1E-BC8B-5DFC34E0AF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956-BF89-4AF9-8991-4E0219FD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689-4401-4EE8-A8BD-197AEB01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650-2315-4D9D-8FF1-65E77D1A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BEB-C776-47FB-906C-78F2DCE9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7F1-BF0F-4198-B7CF-E3AD6862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9AEB-7E35-4A82-8B5E-72E94EEC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C31B-8EEC-4355-90D3-6DC51F38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0752-67CC-4904-A69A-8000CB72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557-DEBB-4951-B585-47389DB4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3BA7-0181-49F5-9E0A-DC75E206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750-0327-49AF-9D6A-E3FEF59B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3CE-0FA0-44DE-A204-B9D26CEF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2ED5-F4EC-4247-90FA-C6327AB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54B5-239A-4059-B26E-948FA23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5FF5-F668-4B7C-AF4B-0477BC19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8624-FC2B-468E-8E07-2E229E9E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4B0-AB47-4455-A700-C94C6BBA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135-0A7D-4DEA-8D47-E36CB878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494-D546-4ECD-B39A-06177F8F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0AB-0942-4020-B84E-62735CCB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92D-F1C6-4E82-A568-38E7D02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D9F-B733-46CF-9271-EECBFC9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21A-0B0E-447E-9FF6-D3F15958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A6F-A141-400E-8121-670E224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800" spc="-1" strike="noStrike" cap="all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18D774-12A4-4FCF-8274-EEE689479E8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4100" spc="-1" strike="noStrike">
                <a:solidFill>
                  <a:srgbClr val="000000"/>
                </a:solidFill>
                <a:latin typeface="Lucida Sans"/>
              </a:rPr>
              <a:t>Click to edit Master title sty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CA" sz="2800" spc="-1" strike="noStrike">
                <a:solidFill>
                  <a:srgbClr val="ffffff"/>
                </a:solidFill>
                <a:latin typeface="Book Antiqu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CA" sz="2400" spc="-1" strike="noStrike">
                <a:solidFill>
                  <a:srgbClr val="ffffff"/>
                </a:solidFill>
                <a:latin typeface="Book Antiqu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CA" sz="2200" spc="-1" strike="noStrike">
                <a:solidFill>
                  <a:srgbClr val="ffffff"/>
                </a:solidFill>
                <a:latin typeface="Book Antiqua"/>
              </a:rPr>
              <a:t>Third level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en-CA" sz="2000" spc="-1" strike="noStrike">
                <a:solidFill>
                  <a:srgbClr val="ffffff"/>
                </a:solidFill>
                <a:latin typeface="Book Antiqu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074430-53E2-41AC-BC18-8EF308D6DDA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 cap="all">
                <a:solidFill>
                  <a:srgbClr val="000000"/>
                </a:solidFill>
                <a:latin typeface="Lucida Sans"/>
              </a:rPr>
              <a:t>Spreadsheets Continued…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520" y="50292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: Shreya Raw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omponents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gic Cond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u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lse Stat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yntax of If-Else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&lt;logic statement&gt;, &lt;true statement&gt;,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&lt;false statement&gt;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2&lt;50, “Fail”, “Pass”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= IF(A1&lt;50, “Fail, IF(A1&gt;80, “A”, “B”)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tatement can correspond to a number, or a string of characters by using double quotation marks (e.g. "yes", "true", "evaluation if false", etc.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 IF(A1&lt;50, “Fail”, “Pass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A1&lt;50, “Fail”, IF(A1&gt;80, “A Grade”, B Grade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88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A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43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Fa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1 = 5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 Grad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More Examples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G2 = “Cat”, “Kitten”, (IF G2 = “Dog”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Puppy”, “Small Mammal”)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C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Kitt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Dog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Pupp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Ba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2 = Mous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mall Mamm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ivot tables provide a mechanism to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ummarize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analyz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kes it easier to present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Pivot Tab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1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Killer Exampl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1 = “Bed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2 = “Sofa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have sof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bed”, IF (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3 = “Chair”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“You chair an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d”, “You have bed but not chair or sofa”))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you do not have anything”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Sofa, A3 = Ta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sofa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1 = Bed, A2 = Table, A3 = Chai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You have chair and b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laculations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use the data associated with cells in a single worksheet, or across multiple workshee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is specified in the function toolb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1 + A2 – E3 * B1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P * N * R)/10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ere P, N, R can be cell values representing  Principal Amount, Number of Years and Rate of Interes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ustom Calculations… (conti)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or data in same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column and r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A12, E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fer cell data from different workshe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referred as sheet name, exclamation point (‘!’), and cell reference (F12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g: Sheet2!F5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Steps to perform a custom calculation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lect the cell in which you would like the evaluation of the custom calculation to be displaye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the Function toolbar, enter the custom calculation by starting with the equals symbol '='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2080" indent="-3988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p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400" indent="-274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entering the custom calculation, press the 'enter' key to evaluate the function. The result will appear in the cell that was originally selecte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ustom calculation can also include functions which are bundled with Exce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SUM(A5:A10) * 50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(AVERAGE(A22:A56) / COUNT(A22:A56)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Understanding If-Then statement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f-Then statement answers the question "is this true or false?" and then performs a corresponding actio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not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it snow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gy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temperature &lt; -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stay at hom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868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 will go to scho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Note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nested If-Then statements, evaluations of inner-most statements occur first, and their evaluations are propagated to the outer-most statement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pex">
  <a:themeElements>
    <a:clrScheme name="Apex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.thmx</Template>
  <TotalTime>104</TotalTime>
  <Application>LibreOffice/7.4.7.2$Linux_X86_64 LibreOffice_project/40$Build-2</Application>
  <AppVersion>15.0000</AppVersion>
  <Words>760</Words>
  <Paragraphs>99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9:26:32Z</dcterms:created>
  <dc:creator>Shreya Rawal</dc:creator>
  <dc:description/>
  <dc:language>en-US</dc:language>
  <cp:lastModifiedBy>Shreya Rawal</cp:lastModifiedBy>
  <dcterms:modified xsi:type="dcterms:W3CDTF">2009-01-21T19:36:04Z</dcterms:modified>
  <cp:revision>8</cp:revision>
  <dc:subject/>
  <dc:title>Spreadsheets Continued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9</vt:r8>
  </property>
</Properties>
</file>